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CA9-9914-46E6-8FD1-95143BC3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246A-F2B4-4AB2-BB9B-F8ECFC3C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85AB-77ED-4D79-B82C-8F1B092E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C0F-E11B-4DF7-8E76-3324E5BD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BDB0-88FC-41A0-A31B-3423B14E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E1D5-8387-4871-956F-31BEE2EB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17C4-4C0A-498B-9AE8-BD3B48F7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CC58-CF9D-4EA0-8707-D10C50E4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E5A-C6A4-4B23-9E03-58E5C6CD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13B-CB51-4366-A05A-2EA69BD8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5800-1900-4A81-A148-4051D65B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7808-350D-44A3-9531-3CD2357E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0460-D39B-4AFE-B4C3-A1734ECA56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oup 7" descr=""/>
          <p:cNvPicPr/>
          <p:nvPr/>
        </p:nvPicPr>
        <p:blipFill>
          <a:blip r:embed="rId1"/>
          <a:stretch/>
        </p:blipFill>
        <p:spPr>
          <a:xfrm>
            <a:off x="-115920" y="-55440"/>
            <a:ext cx="1305000" cy="1463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828720" y="449280"/>
            <a:ext cx="62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ительные меры социальной поддержки семей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щих дет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11" descr=""/>
          <p:cNvPicPr/>
          <p:nvPr/>
        </p:nvPicPr>
        <p:blipFill>
          <a:blip r:embed="rId2"/>
          <a:stretch/>
        </p:blipFill>
        <p:spPr>
          <a:xfrm>
            <a:off x="6581880" y="111240"/>
            <a:ext cx="1787400" cy="1185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4"/>
          <p:cNvSpPr/>
          <p:nvPr/>
        </p:nvSpPr>
        <p:spPr>
          <a:xfrm>
            <a:off x="1422360" y="6381720"/>
            <a:ext cx="68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Телефон «горячей линии» Отделения ПФР по Приморскому краю: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(423)249-86-0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47680" y="1203480"/>
            <a:ext cx="8645400" cy="524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23:45Z</dcterms:created>
  <dc:creator>000210</dc:creator>
  <dc:description/>
  <dc:language>en-US</dc:language>
  <cp:lastModifiedBy>Вовченко Александра Александровна</cp:lastModifiedBy>
  <cp:lastPrinted>2020-05-13T22:14:31Z</cp:lastPrinted>
  <dcterms:modified xsi:type="dcterms:W3CDTF">2020-05-13T23:49:08Z</dcterms:modified>
  <cp:revision>2313</cp:revision>
  <dc:subject/>
  <dc:title>Слайд 1</dc:title>
</cp:coreProperties>
</file>